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0AD4-691B-4C93-AC28-BE0C6EED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6D9D-41D7-430D-A4D3-956EF9E0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81CE-3E7C-4ACF-A1EC-67A8C665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EA5C-6C92-4906-A372-89433386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F10E-1719-4B11-9CEB-3546F8BF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E729-411D-4981-AE65-F098E370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616D-C1B5-4C17-86B9-E814AED4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E892-1EDA-4DA4-81C3-514F2009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36DD-FA97-4017-A49B-2760BBB1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6376-6FB7-4E50-AC74-39048A08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072E-6BED-4A4F-8547-D2B055CA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0BD-37D6-4073-AB31-AC9395AE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A40A-1F9D-4B44-8924-ABEEC01E0253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ubtítulo 2"/>
          <p:cNvSpPr/>
          <p:nvPr/>
        </p:nvSpPr>
        <p:spPr>
          <a:xfrm>
            <a:off x="179280" y="1481040"/>
            <a:ext cx="8821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Arial"/>
              </a:rPr>
              <a:t>ESCOLA ESTADUAL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Arial"/>
              </a:rPr>
              <a:t>EDUARDO BATISTA AMORIM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  <a:ea typeface="Arial"/>
              </a:rPr>
              <a:t>PROGETEC: RAFAEL SANTOS DA CRUZ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  <a:ea typeface="Arial"/>
              </a:rPr>
              <a:t>GED – NTE REGIONA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ítulo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RIBAS DO RIO PARDO – M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Possibilidades de avaliação com uso das TIC na sua escol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Montar apresentação de seminário utilizando o editor de apresentaçõ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Produção de texto utilizando o Editor de texto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Construções de gráficos e tabelas de um determinado tema com a utilização do Editor de planilha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Criação de apresentações em formas de vídeo, utilizando editores. 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  <a:ea typeface="Arial"/>
              </a:rPr>
              <a:t>Descrição de duas situações de avaliação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Calibri"/>
                <a:ea typeface="Arial"/>
              </a:rPr>
              <a:t>que ocorreu na escola com o uso das TIC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Seminário: Começando com a pesquisa na sala de tecnologia e depois a criação da apresentação em forma de slide utilizando o Editor de Apresentações do Linux Educacional 5.0. E finalizando o trabalho com a apresentação para a turma utilizando o data show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Produção de Vídeo: Fazendo uma gravação de vídeo em forma de paródia de um determinado tema. Depois de fazer a gravação, os alunos editarão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  <a:ea typeface="Arial"/>
              </a:rPr>
              <a:t>O professor pode avaliar usando os seguintes recursos tecnológico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Produção de texto utilizando o editor disponível no computado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Apresentação de seminário, que vai da pesquisa na internet até a montagem dos slides no editor de apresentação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Produção de vídeos avaliativos, começando pela gravação até a edição final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Responder questionários referente a um determinado tema em forma de QUIS ou questões onlin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1T22:34:52Z</dcterms:created>
  <dc:creator>RIRA_RAFAEL</dc:creator>
  <dc:description/>
  <dc:language>en-US</dc:language>
  <cp:lastModifiedBy>RIRA_RAFAEL</cp:lastModifiedBy>
  <dcterms:modified xsi:type="dcterms:W3CDTF">2015-09-01T01:43:30Z</dcterms:modified>
  <cp:revision>19</cp:revision>
  <dc:subject/>
  <dc:title>Slide 1</dc:title>
</cp:coreProperties>
</file>